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38D-9516-4CD4-B581-D16ADCC4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4B0-2A8F-4E7A-BFCD-3CE4A15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A2E-C7C6-4B58-BAA6-2ABFC4DA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4A3-2BA5-4B78-BF29-B327CF2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11A-C27D-48A4-BA81-CAB40445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480-77E4-4375-8A03-DB226DF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6E4-49E7-455E-8233-EAFA979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8EC-28D7-4EBD-B826-8316C9C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DC4-E7CF-432F-9EA4-A19CCBEA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590-744A-498F-9DF3-AE7418D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21F-04C4-40DF-B2FA-CD88CFD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D66-5ABF-46C8-895C-3D32E31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F360-6B21-4587-93FB-9DBC12D57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505240" y="549360"/>
            <a:ext cx="423684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901800" y="1517760"/>
            <a:ext cx="7413480" cy="260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543708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Вид мистецтва, твори якого створюються за допомогою кінознімання реальних, спеціально інсценованих або відтворених засобами анімації поді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4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Чітка нерухома фіксація того чи іншого зображен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Вони запатентували кінематограф у 1895 році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>
              <a:lnSpc>
                <a:spcPct val="130000"/>
              </a:lnSpc>
              <a:spcBef>
                <a:spcPts val="700"/>
              </a:spcBef>
              <a:buClr>
                <a:srgbClr val="00206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зва фільму «Вихід робочих із фабрики…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8 грудня 1895 року в Парижі відбувся перший публічний показ кінематограф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індійському салоні «Гранд кафе» на Буль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арі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 algn="just">
              <a:lnSpc>
                <a:spcPct val="13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Який фільм братів Люм’єр «налякав» глядачів так, що вони втікали з кіносеанс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Він першим став знімати фільми за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сценарі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Легендарний англійський та американський кіноактор і кінорежисер німого кіно першої половини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XX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столітт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Музикантів, які грали на фортепіано мелодії під час сеансу, називали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84360" y="54900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3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Цей рік вважається роком появ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кольорового кі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Український радянський письменник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інорежисер, кінодраматург, художник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ласик світового кінематограф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У 1958 р. на Всесвітній виставці в Брюсселі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цей фільм О. Довженка визнали одним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із 12 найкращих картин усіх час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spcBef>
                <a:spcPts val="7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еревір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2"/>
          <a:stretch/>
        </p:blipFill>
        <p:spPr>
          <a:xfrm>
            <a:off x="512640" y="1341360"/>
            <a:ext cx="8234640" cy="478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1T15:57:35Z</dcterms:created>
  <dc:creator>Оленка</dc:creator>
  <dc:description/>
  <dc:language>en-US</dc:language>
  <cp:lastModifiedBy>teacher1</cp:lastModifiedBy>
  <dcterms:modified xsi:type="dcterms:W3CDTF">2018-02-19T09:04:45Z</dcterms:modified>
  <cp:revision>9</cp:revision>
  <dc:subject/>
  <dc:title>Презентация PowerPoint</dc:title>
</cp:coreProperties>
</file>